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9"/>
          <p:cNvGraphicFramePr/>
          <p:nvPr/>
        </p:nvGraphicFramePr>
        <p:xfrm>
          <a:off x="0" y="0"/>
          <a:ext cx="914400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" name="Object 38"/>
          <p:cNvGraphicFramePr/>
          <p:nvPr/>
        </p:nvGraphicFramePr>
        <p:xfrm>
          <a:off x="0" y="1676520"/>
          <a:ext cx="825480" cy="487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676520"/>
                    <a:ext cx="8254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" name="Object 37"/>
          <p:cNvGraphicFramePr/>
          <p:nvPr/>
        </p:nvGraphicFramePr>
        <p:xfrm>
          <a:off x="152280" y="1676520"/>
          <a:ext cx="8991720" cy="48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" name="Object 3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1676520"/>
                    <a:ext cx="89917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76320" y="65530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Business English a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0" y="6553080"/>
            <a:ext cx="9144000" cy="460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40"/>
          <p:cNvSpPr/>
          <p:nvPr/>
        </p:nvSpPr>
        <p:spPr>
          <a:xfrm>
            <a:off x="3184560" y="425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43"/>
          <p:cNvSpPr/>
          <p:nvPr/>
        </p:nvSpPr>
        <p:spPr>
          <a:xfrm rot="16200000">
            <a:off x="-2437920" y="4037040"/>
            <a:ext cx="4951440" cy="7776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44"/>
          <p:cNvSpPr/>
          <p:nvPr/>
        </p:nvSpPr>
        <p:spPr>
          <a:xfrm rot="16200000">
            <a:off x="6629400" y="4038480"/>
            <a:ext cx="4952880" cy="7632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9"/>
          <p:cNvGraphicFramePr/>
          <p:nvPr/>
        </p:nvGraphicFramePr>
        <p:xfrm>
          <a:off x="0" y="0"/>
          <a:ext cx="914400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8"/>
          <p:cNvGraphicFramePr/>
          <p:nvPr/>
        </p:nvGraphicFramePr>
        <p:xfrm>
          <a:off x="0" y="1676520"/>
          <a:ext cx="825480" cy="487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676520"/>
                    <a:ext cx="8254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37"/>
          <p:cNvGraphicFramePr/>
          <p:nvPr/>
        </p:nvGraphicFramePr>
        <p:xfrm>
          <a:off x="152280" y="1676520"/>
          <a:ext cx="8991720" cy="48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3" name="Object 3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1676520"/>
                    <a:ext cx="89917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Rectangle 1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76320" y="65530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Business English a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1"/>
          <p:cNvSpPr/>
          <p:nvPr/>
        </p:nvSpPr>
        <p:spPr>
          <a:xfrm>
            <a:off x="0" y="6553080"/>
            <a:ext cx="9144000" cy="460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0"/>
          <p:cNvSpPr/>
          <p:nvPr/>
        </p:nvSpPr>
        <p:spPr>
          <a:xfrm>
            <a:off x="3184560" y="425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3"/>
          <p:cNvSpPr/>
          <p:nvPr/>
        </p:nvSpPr>
        <p:spPr>
          <a:xfrm rot="16200000">
            <a:off x="-2437920" y="4037040"/>
            <a:ext cx="4951440" cy="7776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4"/>
          <p:cNvSpPr/>
          <p:nvPr/>
        </p:nvSpPr>
        <p:spPr>
          <a:xfrm rot="16200000">
            <a:off x="6629400" y="4038480"/>
            <a:ext cx="4952880" cy="7632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espond Question M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cent Complete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0: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9"/>
          <p:cNvGraphicFramePr/>
          <p:nvPr/>
        </p:nvGraphicFramePr>
        <p:xfrm>
          <a:off x="0" y="0"/>
          <a:ext cx="9144000" cy="1663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4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8"/>
          <p:cNvGraphicFramePr/>
          <p:nvPr/>
        </p:nvGraphicFramePr>
        <p:xfrm>
          <a:off x="0" y="1676520"/>
          <a:ext cx="825480" cy="487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Object 3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676520"/>
                    <a:ext cx="8254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7"/>
          <p:cNvGraphicFramePr/>
          <p:nvPr/>
        </p:nvGraphicFramePr>
        <p:xfrm>
          <a:off x="152280" y="1676520"/>
          <a:ext cx="8991720" cy="4876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Object 3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1676520"/>
                    <a:ext cx="89917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1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76320" y="6553080"/>
            <a:ext cx="525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Business English a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1"/>
          <p:cNvSpPr/>
          <p:nvPr/>
        </p:nvSpPr>
        <p:spPr>
          <a:xfrm>
            <a:off x="0" y="6553080"/>
            <a:ext cx="9144000" cy="460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3184560" y="425520"/>
            <a:ext cx="534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3"/>
          <p:cNvSpPr/>
          <p:nvPr/>
        </p:nvSpPr>
        <p:spPr>
          <a:xfrm rot="16200000">
            <a:off x="-2437920" y="4037040"/>
            <a:ext cx="4951440" cy="7776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4"/>
          <p:cNvSpPr/>
          <p:nvPr/>
        </p:nvSpPr>
        <p:spPr>
          <a:xfrm rot="16200000">
            <a:off x="6629400" y="4038480"/>
            <a:ext cx="4952880" cy="7632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spond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3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67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4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4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Rectangle 25"/>
          <p:cNvSpPr/>
          <p:nvPr/>
        </p:nvSpPr>
        <p:spPr>
          <a:xfrm>
            <a:off x="76320" y="632448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English at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3 Glencoe/McGraw-H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848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ompanies, Institutions,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nd Club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33520" y="4408560"/>
            <a:ext cx="83055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company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our club’s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the mission of the college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04920" y="291780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words such a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ompan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lu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instit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when used as general expression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3"/>
          <p:cNvSpPr/>
          <p:nvPr/>
        </p:nvSpPr>
        <p:spPr>
          <a:xfrm>
            <a:off x="304920" y="291780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specific names of departments, committees, project teams, or divisions within the organization with which the writer is associat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Departments, Committees,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and Div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304920" y="4114800"/>
            <a:ext cx="8381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The Human Resources Department offers time management seminars.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04920" y="480060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o not capitalize names of departments, committees, project teams, or divisions if words other than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appear before them or if the names are not preci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304920" y="5997600"/>
            <a:ext cx="838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Call someone in their accounting department about your refund.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Government Unit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304920" y="2514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specific official names of foreign, national, state, and local government un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04920" y="3276720"/>
            <a:ext cx="838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The Republic of Irel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National Park Service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304920" y="39625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names of agencies, divisions, departments, offices, commissions, and board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04920" y="4813200"/>
            <a:ext cx="838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Human Services Depart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Cultural Heritage Boar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304920" y="554688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short forms of the names of government uni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761760" y="5943600"/>
            <a:ext cx="3801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the House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         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the Congress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Tit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6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4920" y="2514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a social, professional, religious, academic, political, or military title that precedes a na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04920" y="3276720"/>
            <a:ext cx="838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Mrs. Jamie Chen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</a:rPr>
              <a:t>Dr. Bruce Comstoc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Professor Betty Howell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</a:rPr>
              <a:t>Mayor Bob Lindse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304920" y="41148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talize a title that follows the name of a high-ranking foreign, national, or state government official. Capitalize a title used to substitute for the complete name of a high-ranking government offi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"/>
          <p:cNvSpPr/>
          <p:nvPr/>
        </p:nvSpPr>
        <p:spPr>
          <a:xfrm>
            <a:off x="304920" y="5603760"/>
            <a:ext cx="8381880" cy="8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</a:rPr>
              <a:t>George W. Bush, President of the United Sta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</a:rPr>
              <a:t>Thomas Vilsack, Governor of Iow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Tit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04920" y="251460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o not capitalize the title of a company, institution, or association official that follows a name or that is used as a substitute for a complete name unless practice or tradition indicates to the contra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81600" y="4419720"/>
            <a:ext cx="85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Robin Matthews, president of Evergreen Nurs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an Johanson, secretary of United Farm Workers of America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6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Tit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304920" y="2514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occupational titles used in a general way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6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304920" y="333684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The manager reviewed our priorities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304920" y="38098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a title used as a substitute for a complete name in a direct addres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304920" y="463248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When will you vote on the bill, Senator?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304920" y="51055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a title used in place of a name in minutes or bylaw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304920" y="592776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The President called the meeting to order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Family Titl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04920" y="2514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title of a family member when it is used by itself or when it is used in direct addres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04920" y="3336840"/>
            <a:ext cx="83818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I always wondered how Father found time to coach Little Leagu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I will not be home for dinner tonight, Mom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04920" y="46483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title of a family member when it precedes a nam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304920" y="547056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I ride to work with Aunt Julia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Publ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2514600"/>
            <a:ext cx="8381880" cy="28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first letters of all the words with four or more letters in the title of a book, magazine, or newspap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Underscore or place these titles in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talic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o not capitalize articles, conjunctions, or prepositions with fewer than four letters unless they are the first or last words in the tit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8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04920" y="5356080"/>
            <a:ext cx="83818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Ames Daily Tribune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Travel and Lei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The Boston Globe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Sports Illustrated magaz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Public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04920" y="2514600"/>
            <a:ext cx="8381880" cy="32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first letters of all the main words in works such as chapters in books, magazine articles, plays, musical productions, movies, documentaries, speeches, radio and television programs, and poe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lace quotation marks around these tit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o not capitalize articles, conjunctions, or prepositions with fewer than four letters unless they are the first or last words in the titl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304920" y="5638680"/>
            <a:ext cx="838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The Death of a Salesman”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(play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“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Phantom of the Opera”</a:t>
            </a:r>
            <a:r>
              <a:rPr b="0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(musical productio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Events and Holiday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e the names of historical and current events, holidays, and special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304920" y="3657600"/>
            <a:ext cx="838188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Vietnam W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Thanksgiving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Labor 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Leukemia Curath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Summit Avenue Walking Tour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solidFill>
            <a:srgbClr val="ede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1600200"/>
            <a:ext cx="9144000" cy="76320"/>
          </a:xfrm>
          <a:prstGeom prst="rect">
            <a:avLst/>
          </a:prstGeom>
          <a:gradFill rotWithShape="0">
            <a:gsLst>
              <a:gs pos="0">
                <a:srgbClr val="744d0c"/>
              </a:gs>
              <a:gs pos="100000">
                <a:srgbClr val="faa6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0" y="6526080"/>
            <a:ext cx="9144000" cy="76320"/>
          </a:xfrm>
          <a:prstGeom prst="rect">
            <a:avLst/>
          </a:prstGeom>
          <a:gradFill rotWithShape="0">
            <a:gsLst>
              <a:gs pos="0">
                <a:srgbClr val="faa61a"/>
              </a:gs>
              <a:gs pos="100000">
                <a:srgbClr val="744d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7"/>
          <p:cNvGraphicFramePr/>
          <p:nvPr/>
        </p:nvGraphicFramePr>
        <p:xfrm>
          <a:off x="0" y="1828800"/>
          <a:ext cx="41274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41274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14"/>
          <p:cNvSpPr/>
          <p:nvPr/>
        </p:nvSpPr>
        <p:spPr>
          <a:xfrm>
            <a:off x="533520" y="2924280"/>
            <a:ext cx="8231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Use capitalization rules for proper nouns, first words in sentences, specific organizations, committees, government agencies, boards, and department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33520" y="4114800"/>
            <a:ext cx="83055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pply capitalization rules for publications, events, holidays, acts, bills, laws, and titl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capitalization rules for academic degrees, languages, education levels and courses, and ethnic and religious designation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7455960" y="60958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cts, Bills, and Law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specific titles of laws, acts, codes, and amendment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304920" y="3505320"/>
            <a:ext cx="83818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Child Safety Law 10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Family and Medical Leave Act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04920" y="44416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general names of laws, acts, codes, or amendment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304920" y="5432400"/>
            <a:ext cx="83818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the animal control regul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several conservation bills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cademic Degre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a specific academic degree that follows a person’s nam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304920" y="350532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Jan Reynolds, Ph.D., teaches time managem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304920" y="403848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academic degrees used in a general w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304920" y="50292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Times New Roman"/>
              </a:rPr>
              <a:t>She received her associate’s degree from Pikes Peak Community College.</a:t>
            </a:r>
            <a:r>
              <a:rPr b="0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lways capitalize names of specific languag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04920" y="3505320"/>
            <a:ext cx="83818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Mark speaks Danish and Swedish fluently.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This computer program translates English into Japanese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Education Levels, Subjects,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nd Cours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304920" y="2959200"/>
            <a:ext cx="838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a specific education course titl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04920" y="3429000"/>
            <a:ext cx="8381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Office Communications 202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304920" y="3809880"/>
            <a:ext cx="8381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general name of a course or area of study or a general level of educatio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304920" y="5181480"/>
            <a:ext cx="838188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majoring in computer appl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earning an accounting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completed classes in business English and communications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Ethnic Design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names of nationalities, ethnic groups, and ra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304920" y="3648240"/>
            <a:ext cx="83818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Native America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British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Asia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Hispanic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Religious Referenc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04920" y="251460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Capitalize the names of specific religious groups, religious days and books, names of churches, and any adjectives formed from religious term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304920" y="4562640"/>
            <a:ext cx="83818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Judaism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Kora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Christians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Easter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Days, Months, and Sea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days of the week and months of the y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304920" y="3505320"/>
            <a:ext cx="8381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Monday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September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304920" y="4038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name of a season unless it is listed with a specific year or is included in the specific name of an even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304920" y="5562720"/>
            <a:ext cx="8381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summer sales 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Art in Autumn Festival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Time Perio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ime periods, decades, or centuries used in a general w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304920" y="3505320"/>
            <a:ext cx="83818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first-quarter earnings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Times New Roman"/>
              </a:rPr>
              <a:t>the last century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304920" y="40384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.m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.m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r general times of the da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304920" y="4952880"/>
            <a:ext cx="83818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The seminar began at 9 a.m.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3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900" spc="-1" strike="noStrike">
                <a:solidFill>
                  <a:srgbClr val="003399"/>
                </a:solidFill>
                <a:latin typeface="Arial"/>
                <a:ea typeface="Arial"/>
              </a:rPr>
              <a:t>Our luncheon will start at no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ompass Direc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04920" y="25146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compass directions when they designate specific regions of the country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304920" y="3321000"/>
            <a:ext cx="838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the far East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Northern Ireland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304920" y="3701880"/>
            <a:ext cx="85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derivatives of specific region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04920" y="4083120"/>
            <a:ext cx="838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Southerners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Westerners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304920" y="4495680"/>
            <a:ext cx="883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general compass points or direction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304920" y="4876920"/>
            <a:ext cx="83818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northern Minnesota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east side of Chicag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turn west on Interstate 5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travel north on Ely Road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304920" y="560700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compass points that are part of a street nam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304920" y="5987880"/>
            <a:ext cx="8381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250 South Eastman Lane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Times New Roman"/>
              </a:rPr>
              <a:t>312 Swan Drive, SE</a:t>
            </a:r>
            <a:r>
              <a:rPr b="0" i="1" lang="en-US" sz="21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bbreviati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an abbreviation representing a proper nou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04920" y="3505320"/>
            <a:ext cx="83818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UPS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United Parcel Serv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AFLAC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American Family Life Assurance Company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304920" y="42670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some shortened forms of common noun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304920" y="5181480"/>
            <a:ext cx="83818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CPA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certified public account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PC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personal comput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CEO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chief executive officer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solidFill>
            <a:srgbClr val="ede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0" y="1600200"/>
            <a:ext cx="9144000" cy="76320"/>
          </a:xfrm>
          <a:prstGeom prst="rect">
            <a:avLst/>
          </a:prstGeom>
          <a:gradFill rotWithShape="0">
            <a:gsLst>
              <a:gs pos="0">
                <a:srgbClr val="744d0c"/>
              </a:gs>
              <a:gs pos="100000">
                <a:srgbClr val="faa6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526080"/>
            <a:ext cx="9144000" cy="76320"/>
          </a:xfrm>
          <a:prstGeom prst="rect">
            <a:avLst/>
          </a:prstGeom>
          <a:gradFill rotWithShape="0">
            <a:gsLst>
              <a:gs pos="0">
                <a:srgbClr val="faa61a"/>
              </a:gs>
              <a:gs pos="100000">
                <a:srgbClr val="744d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0" y="1828800"/>
          <a:ext cx="41274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41274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9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3887280" y="23623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2"/>
          <p:cNvSpPr/>
          <p:nvPr/>
        </p:nvSpPr>
        <p:spPr>
          <a:xfrm>
            <a:off x="533520" y="2924280"/>
            <a:ext cx="82310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pply capitalization rules for time periods, seasons, days and months, specific and general locations, and directi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3"/>
          <p:cNvSpPr/>
          <p:nvPr/>
        </p:nvSpPr>
        <p:spPr>
          <a:xfrm>
            <a:off x="533520" y="4038480"/>
            <a:ext cx="83055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pply capitalization rules for abbreviations, nouns with numbers, trademarks, brand names, and product na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pply capitalization rules for direct and indirect quotes, words after colons, and material within parenthes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4"/>
          <p:cNvSpPr/>
          <p:nvPr/>
        </p:nvSpPr>
        <p:spPr>
          <a:xfrm>
            <a:off x="7455960" y="609588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Nouns With Letters and Number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3"/>
          <p:cNvSpPr/>
          <p:nvPr/>
        </p:nvSpPr>
        <p:spPr>
          <a:xfrm>
            <a:off x="304920" y="2514600"/>
            <a:ext cx="8381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nouns when they precede a letter or numb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04920" y="350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Volume 5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Highway 126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304920" y="4038480"/>
            <a:ext cx="85341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first letters of the words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lin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aragraph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pag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size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ver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when they precede a numb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304920" y="557676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page 3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paragraph 4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Trademarks, Brand Names,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nd Product Nam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04920" y="2971800"/>
            <a:ext cx="8839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rademarks or specific brand nam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04920" y="350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Maytag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Kleene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304920" y="40384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type of produ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304920" y="4572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appliances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tissues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First Word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04920" y="2514600"/>
            <a:ext cx="838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26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first word of a direct quotation that is a complete sent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304920" y="3352680"/>
            <a:ext cx="8381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Brenda said, “We are finishing a project.”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304920" y="376236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26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first word of a quotation that cannot stand as a complete sent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304920" y="4586400"/>
            <a:ext cx="8381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My manager said there is no “free lunch.”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304920" y="5029200"/>
            <a:ext cx="853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26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first word of the second part of an interrupted quota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"/>
          <p:cNvSpPr/>
          <p:nvPr/>
        </p:nvSpPr>
        <p:spPr>
          <a:xfrm>
            <a:off x="304920" y="5867280"/>
            <a:ext cx="8381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“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Wasted time,” Elaine said, “helps you reduce tension.”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ing Word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Following a Col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04920" y="29718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first word following a colon if two or more complete sentences are invol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304920" y="3732120"/>
            <a:ext cx="83818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Consider these ideas for overcoming procrastination:  Set a deadline and stick with it.  Start with small portions of the projec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304920" y="48769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first word of material following a colon if it is not a complet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"/>
          <p:cNvSpPr/>
          <p:nvPr/>
        </p:nvSpPr>
        <p:spPr>
          <a:xfrm>
            <a:off x="304920" y="5607000"/>
            <a:ext cx="8381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Shelly said time wasters are categorized into two types:  internal and external.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ing Words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Following a Col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304920" y="2971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first word of a sentence that follows a colon if the sentence states a formal rule (regulation) or needs emph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304920" y="4114800"/>
            <a:ext cx="8381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Remember:  Do priority tasks fir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304920" y="4495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 not capitalize the first word of a sentence that follows a colon if the sentence simply expands or completes the first part of the sent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04920" y="5638680"/>
            <a:ext cx="83818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Michelle had one major goal for the day:  she wanted to complete the report.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5"/>
          <p:cNvSpPr/>
          <p:nvPr/>
        </p:nvSpPr>
        <p:spPr>
          <a:xfrm>
            <a:off x="328680" y="2174760"/>
            <a:ext cx="19047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defe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1600200"/>
            <a:ext cx="9144000" cy="4952880"/>
          </a:xfrm>
          <a:prstGeom prst="rect">
            <a:avLst/>
          </a:prstGeom>
          <a:solidFill>
            <a:srgbClr val="edef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0" y="1600200"/>
            <a:ext cx="9144000" cy="76320"/>
          </a:xfrm>
          <a:prstGeom prst="rect">
            <a:avLst/>
          </a:prstGeom>
          <a:gradFill rotWithShape="0">
            <a:gsLst>
              <a:gs pos="0">
                <a:srgbClr val="744d0c"/>
              </a:gs>
              <a:gs pos="100000">
                <a:srgbClr val="faa6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6526080"/>
            <a:ext cx="9144000" cy="76320"/>
          </a:xfrm>
          <a:prstGeom prst="rect">
            <a:avLst/>
          </a:prstGeom>
          <a:gradFill rotWithShape="0">
            <a:gsLst>
              <a:gs pos="0">
                <a:srgbClr val="faa61a"/>
              </a:gs>
              <a:gs pos="100000">
                <a:srgbClr val="744d0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6"/>
          <p:cNvGraphicFramePr/>
          <p:nvPr/>
        </p:nvGraphicFramePr>
        <p:xfrm>
          <a:off x="0" y="1828800"/>
          <a:ext cx="412740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28800"/>
                    <a:ext cx="412740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9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1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3887280" y="23623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533520" y="2924280"/>
            <a:ext cx="823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 appropriate items to capitalize in lists, outlines, business letters, and legal document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304920" y="2514600"/>
            <a:ext cx="8381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the first word in a sentence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11280" y="17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ation Ru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1"/>
          <p:cNvSpPr/>
          <p:nvPr/>
        </p:nvSpPr>
        <p:spPr>
          <a:xfrm>
            <a:off x="304920" y="292572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Managing time reduces stress.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"/>
          <p:cNvSpPr/>
          <p:nvPr/>
        </p:nvSpPr>
        <p:spPr>
          <a:xfrm>
            <a:off x="304920" y="342900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apitalize proper nouns. Do not capitalize common noun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304920" y="4267080"/>
            <a:ext cx="838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e Benbow Inn is in Californ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We attended a time management workshop.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4"/>
          <p:cNvSpPr/>
          <p:nvPr/>
        </p:nvSpPr>
        <p:spPr>
          <a:xfrm>
            <a:off x="304920" y="510552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names or nicknames of specific person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304920" y="5943600"/>
            <a:ext cx="8381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Elena Catelli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N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04920" y="2514600"/>
            <a:ext cx="8381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lways capitalize the pronoun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I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Do not capitalize other pronouns unless they appear at the beginning of a sente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17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ation Ru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04920" y="3733920"/>
            <a:ext cx="83818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I return my phone calls at 11 a.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He kept his urgent papers in a red folder.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304920" y="461484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specific names of geographic locations.  Do not capitalize general location na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304920" y="5410080"/>
            <a:ext cx="83818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Kansas City is located in both Kansas and Missouri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US" sz="2300" spc="-1" strike="noStrike">
                <a:solidFill>
                  <a:srgbClr val="003399"/>
                </a:solidFill>
                <a:latin typeface="Arial"/>
                <a:ea typeface="Times New Roman"/>
              </a:rPr>
              <a:t>The mountains of Colorado are beautiful.</a:t>
            </a: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304920" y="251460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informal substitutions for proper nouns and shortened versions of proper nouns.  These substitutions are often referred to as imaginative names and nickna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7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ation Ru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905120" y="3733920"/>
            <a:ext cx="670536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e Oval Offi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ir Force 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Mother Natu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a Big Ma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Big Brother (intrusive big govern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e Beltway (Washington, D.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e Big Apple (New York Cit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City of Angels (Los Ange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he Pacific Ri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6"/>
          <p:cNvSpPr/>
          <p:nvPr/>
        </p:nvSpPr>
        <p:spPr>
          <a:xfrm>
            <a:off x="533520" y="4284720"/>
            <a:ext cx="83055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talian leather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rench f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Greek food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manila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ustralian hat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rabic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04920" y="2514600"/>
            <a:ext cx="8381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adjectives formed from proper nouns. However, adjectives formed from proper nouns that are now commonly used and that are no longer identified with those nouns are not capitalize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11280" y="17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apitalization Rule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2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533520" y="42847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 Adject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ly Used Ad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381960" y="16765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533520" y="4772160"/>
            <a:ext cx="83055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Valley of the Moon Camp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n at the 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e Pet Pantry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onom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304920" y="2917800"/>
            <a:ext cx="8381880" cy="24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1880" indent="-461880">
              <a:spcBef>
                <a:spcPts val="312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pitalize the first letters of all major words in names of companies, institutions, organizations, and club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61880" indent="-461880">
              <a:spcBef>
                <a:spcPts val="312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Do not capitalize article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a, an, the)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conjunction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and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ut, or, nor)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and prepositions with fewer than four letter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(of, in, on, by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unless one of these words is the first word of the nam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780920"/>
            <a:ext cx="7999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Companies, Institutions,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Times New Roman"/>
              </a:rPr>
              <a:t>and Clubs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6789600" y="6553080"/>
            <a:ext cx="22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0f0f0"/>
                </a:solidFill>
                <a:latin typeface="Arial"/>
              </a:rPr>
              <a:t>PP 6-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01:34:21Z</dcterms:created>
  <dc:creator>nigel wright</dc:creator>
  <dc:description/>
  <dc:language>en-US</dc:language>
  <cp:lastModifiedBy>Nadia Williams</cp:lastModifiedBy>
  <dcterms:modified xsi:type="dcterms:W3CDTF">2014-02-27T15:23:0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owPercent">
    <vt:bool>1</vt:bool>
  </property>
  <property fmtid="{D5CDD505-2E9C-101B-9397-08002B2CF9AE}" pid="3" name="ShowTimer">
    <vt:bool>1</vt:bool>
  </property>
</Properties>
</file>